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gif" ContentType="image/gif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5.wmf" ContentType="image/x-wmf"/>
  <Override PartName="/ppt/media/image19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400" y="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14560"/>
            <a:ext cx="48880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400" y="942984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3E2CCE0-713B-4249-AE62-9677AF1F76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7400" y="4714560"/>
            <a:ext cx="48880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87400" y="4714560"/>
            <a:ext cx="4888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egnaposto numero diapositiva 3"/>
          <p:cNvSpPr/>
          <p:nvPr/>
        </p:nvSpPr>
        <p:spPr>
          <a:xfrm>
            <a:off x="3776760" y="9429840"/>
            <a:ext cx="2886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DCACAA-2592-4441-B3E1-2421CE55B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F66-6E57-48AF-93A8-86DA1DBA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F2D-86C6-4865-9DF1-512F765E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9D8-569A-45D2-93A3-56388B89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968-7BA0-48F0-9248-74BD65E3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80C-83E8-4232-B88A-E276F1FC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94B-EFD2-49DF-8784-8E37FC6C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13E-C850-4F65-84C5-F812F876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261-07FB-4B76-97F4-BC9A8B0A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4B9-8B2C-4131-9E70-3208D1D9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B90-4D35-4402-AFA4-45E7A73C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0B2-76A7-4E43-B05D-274E033E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E9C-D78E-4443-81E5-7E4EBCCB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0544-32B9-4DED-ABD3-2E766A46BBFA}" type="slidenum">
              <a:rPr b="1" lang="en-GB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5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4.gif"/><Relationship Id="rId4" Type="http://schemas.openxmlformats.org/officeDocument/2006/relationships/image" Target="../media/image15.wmf"/><Relationship Id="rId5" Type="http://schemas.openxmlformats.org/officeDocument/2006/relationships/image" Target="../media/image20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hyperlink" Target="file:///MockUp_LCA%20application/PreArrival_Hazmat.ppt" TargetMode="External"/><Relationship Id="rId6" Type="http://schemas.openxmlformats.org/officeDocument/2006/relationships/image" Target="../media/image7.png"/><Relationship Id="rId7" Type="http://schemas.openxmlformats.org/officeDocument/2006/relationships/hyperlink" Target="file:///MessageSequences/PreArrivalHazmat_PortPlusMessage_N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5869-9D02-4FC6-856E-0A75FA412D1B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324972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Data provider application for sending/ updating </a:t>
            </a:r>
            <a:r>
              <a:rPr b="1" i="1" lang="en-GB" sz="2400" spc="-1" strike="noStrike">
                <a:solidFill>
                  <a:srgbClr val="0078c7"/>
                </a:solidFill>
                <a:latin typeface="Verdana"/>
              </a:rPr>
              <a:t>PortPlus</a:t>
            </a: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 not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1712880"/>
            <a:ext cx="4527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SSN Workshop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Lisbon 11-12 June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2b71"/>
                </a:solidFill>
                <a:latin typeface="Verdana"/>
              </a:rPr>
              <a:t>[SSN11/3/1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5084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Lisbon, 12</a:t>
            </a:r>
            <a:r>
              <a:rPr b="1" lang="en-US" sz="1600" spc="-1" strike="noStrike" baseline="30000">
                <a:solidFill>
                  <a:srgbClr val="002b71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1343-AA9E-4948-A1FA-ECE8E8D683A7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9720" y="1093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Reporting </a:t>
            </a:r>
            <a:r>
              <a:rPr b="1" lang="en-US" sz="2900" spc="-1" strike="noStrike" u="sng">
                <a:solidFill>
                  <a:srgbClr val="0078c7"/>
                </a:solidFill>
                <a:uFillTx/>
                <a:latin typeface="Verdana"/>
              </a:rPr>
              <a:t>Hazmat</a:t>
            </a:r>
            <a:r>
              <a:rPr b="1" lang="en-US" sz="2800" spc="-1" strike="noStrike" u="sng">
                <a:solidFill>
                  <a:srgbClr val="0078c7"/>
                </a:solidFill>
                <a:uFillTx/>
                <a:latin typeface="Verdana"/>
              </a:rPr>
              <a:t> for </a:t>
            </a:r>
            <a:r>
              <a:rPr b="1" lang="en-US" sz="2900" spc="-1" strike="noStrike" u="sng">
                <a:solidFill>
                  <a:srgbClr val="0078c7"/>
                </a:solidFill>
                <a:uFillTx/>
                <a:latin typeface="Verdana"/>
              </a:rPr>
              <a:t>EU departures</a:t>
            </a:r>
            <a:endParaRPr b="1" lang="en-US" sz="29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356920"/>
            <a:ext cx="7920000" cy="392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he </a:t>
            </a:r>
            <a:r>
              <a:rPr b="0" i="1" lang="en-GB" sz="2000" spc="-1" strike="noStrike">
                <a:solidFill>
                  <a:srgbClr val="002b71"/>
                </a:solidFill>
                <a:latin typeface="Verdana"/>
              </a:rPr>
              <a:t>PortPlus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message framework supports two options to notify HAZMAT departing from EU ports: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18795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2b71"/>
                </a:solidFill>
                <a:uFillTx/>
                <a:latin typeface="Verdana"/>
              </a:rPr>
              <a:t>Option 1: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9900"/>
                </a:solidFill>
                <a:uFillTx/>
                <a:latin typeface="Verdana"/>
              </a:rPr>
              <a:t>prior</a:t>
            </a:r>
            <a:r>
              <a:rPr b="0" lang="en-GB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9900"/>
                </a:solidFill>
                <a:latin typeface="Verdana"/>
              </a:rPr>
              <a:t>to depart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,  using a dinstict </a:t>
            </a:r>
            <a:r>
              <a:rPr b="0" i="1" lang="en-GB" sz="2400" spc="-1" strike="noStrike">
                <a:solidFill>
                  <a:srgbClr val="002b71"/>
                </a:solidFill>
                <a:latin typeface="Verdana"/>
              </a:rPr>
              <a:t>PortPlus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message for </a:t>
            </a:r>
            <a:r>
              <a:rPr b="0" lang="en-GB" sz="2400" spc="-1" strike="noStrike">
                <a:solidFill>
                  <a:srgbClr val="ff9900"/>
                </a:solidFill>
                <a:latin typeface="Verdana"/>
              </a:rPr>
              <a:t>HAZMAT </a:t>
            </a:r>
            <a:r>
              <a:rPr b="0" lang="en-GB" sz="2800" spc="-1" strike="noStrike">
                <a:solidFill>
                  <a:srgbClr val="ff9900"/>
                </a:solidFill>
                <a:latin typeface="Verdana"/>
              </a:rPr>
              <a:t>ONLY</a:t>
            </a:r>
            <a:endParaRPr b="0" lang="en-US" sz="2800" spc="-1" strike="noStrike">
              <a:solidFill>
                <a:srgbClr val="002b71"/>
              </a:solidFill>
              <a:latin typeface="Verdana"/>
            </a:endParaRPr>
          </a:p>
          <a:p>
            <a:pPr lvl="1" marL="187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1879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1879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2b71"/>
                </a:solidFill>
                <a:uFillTx/>
                <a:latin typeface="Verdana"/>
              </a:rPr>
              <a:t>Option 2: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9900"/>
                </a:solidFill>
                <a:uFillTx/>
                <a:latin typeface="Verdana"/>
              </a:rPr>
              <a:t>upon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9900"/>
                </a:solidFill>
                <a:latin typeface="Verdana"/>
              </a:rPr>
              <a:t>departure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 to notify actual </a:t>
            </a:r>
            <a:r>
              <a:rPr b="0" lang="en-GB" sz="2400" spc="-1" strike="noStrike">
                <a:solidFill>
                  <a:srgbClr val="ff9900"/>
                </a:solidFill>
                <a:latin typeface="Verdana"/>
              </a:rPr>
              <a:t>departure and HAZMAT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 related information, </a:t>
            </a:r>
            <a:r>
              <a:rPr b="0" lang="en-GB" sz="2800" spc="-1" strike="noStrike">
                <a:solidFill>
                  <a:srgbClr val="ff9900"/>
                </a:solidFill>
                <a:latin typeface="Verdana"/>
              </a:rPr>
              <a:t>at once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797440" y="3718080"/>
            <a:ext cx="2087640" cy="647640"/>
          </a:xfrm>
          <a:prstGeom prst="downArrowCallout">
            <a:avLst>
              <a:gd name="adj1" fmla="val 80594"/>
              <a:gd name="adj2" fmla="val 80586"/>
              <a:gd name="adj3" fmla="val 16667"/>
              <a:gd name="adj4" fmla="val 66667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3645000"/>
            <a:ext cx="1942920" cy="647640"/>
          </a:xfrm>
          <a:prstGeom prst="downArrowCallout">
            <a:avLst>
              <a:gd name="adj1" fmla="val 75007"/>
              <a:gd name="adj2" fmla="val 75000"/>
              <a:gd name="adj3" fmla="val 16667"/>
              <a:gd name="adj4" fmla="val 66667"/>
            </a:avLst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20602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New naming convention in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HAZMAT-EU context!!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36" name="Segnaposto numero diapositiva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B866-CE48-4CDD-BE3B-2DB146E63B19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Reporting </a:t>
            </a:r>
            <a:r>
              <a:rPr b="1" lang="en-US" sz="2800" spc="-1" strike="noStrike" u="sng">
                <a:solidFill>
                  <a:srgbClr val="0078c7"/>
                </a:solidFill>
                <a:uFillTx/>
                <a:latin typeface="Verdana"/>
              </a:rPr>
              <a:t>Hazmat for EU departur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138" name="Gruppo 6"/>
          <p:cNvGrpSpPr/>
          <p:nvPr/>
        </p:nvGrpSpPr>
        <p:grpSpPr>
          <a:xfrm>
            <a:off x="2928960" y="2928960"/>
            <a:ext cx="1857240" cy="2071800"/>
            <a:chOff x="2928960" y="2928960"/>
            <a:chExt cx="1857240" cy="2071800"/>
          </a:xfrm>
        </p:grpSpPr>
        <p:sp>
          <p:nvSpPr>
            <p:cNvPr id="139" name="Freccia a destra con strisce 5"/>
            <p:cNvSpPr/>
            <p:nvPr/>
          </p:nvSpPr>
          <p:spPr>
            <a:xfrm>
              <a:off x="2928960" y="2928960"/>
              <a:ext cx="1857240" cy="2071800"/>
            </a:xfrm>
            <a:custGeom>
              <a:avLst/>
              <a:gdLst>
                <a:gd name="textAreaLeft" fmla="*/ 290160 w 1857240"/>
                <a:gd name="textAreaRight" fmla="*/ 1393200 w 1857240"/>
                <a:gd name="textAreaTop" fmla="*/ 518040 h 2071800"/>
                <a:gd name="textAreaBottom" fmla="*/ 1554120 h 2071800"/>
              </a:gdLst>
              <a:ahLst/>
              <a:rect l="textAreaLeft" t="textAreaTop" r="textAreaRight" b="textAreaBottom"/>
              <a:pathLst>
                <a:path w="1857388" h="2071702">
                  <a:moveTo>
                    <a:pt x="0" y="517926"/>
                  </a:moveTo>
                  <a:lnTo>
                    <a:pt x="58043" y="517926"/>
                  </a:lnTo>
                  <a:lnTo>
                    <a:pt x="58043" y="1553777"/>
                  </a:lnTo>
                  <a:lnTo>
                    <a:pt x="0" y="1553777"/>
                  </a:lnTo>
                  <a:close/>
                  <a:moveTo>
                    <a:pt x="116087" y="517926"/>
                  </a:moveTo>
                  <a:lnTo>
                    <a:pt x="232174" y="517926"/>
                  </a:lnTo>
                  <a:lnTo>
                    <a:pt x="232174" y="1553777"/>
                  </a:lnTo>
                  <a:lnTo>
                    <a:pt x="116087" y="1553777"/>
                  </a:lnTo>
                  <a:close/>
                  <a:moveTo>
                    <a:pt x="290217" y="517926"/>
                  </a:moveTo>
                  <a:lnTo>
                    <a:pt x="928694" y="517926"/>
                  </a:lnTo>
                  <a:lnTo>
                    <a:pt x="928694" y="0"/>
                  </a:lnTo>
                  <a:lnTo>
                    <a:pt x="1857388" y="1035851"/>
                  </a:lnTo>
                  <a:lnTo>
                    <a:pt x="928694" y="2071702"/>
                  </a:lnTo>
                  <a:lnTo>
                    <a:pt x="928694" y="1553777"/>
                  </a:lnTo>
                  <a:lnTo>
                    <a:pt x="290217" y="1553777"/>
                  </a:lnTo>
                  <a:close/>
                </a:path>
              </a:pathLst>
            </a:custGeom>
            <a:solidFill>
              <a:srgbClr val="a5a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5" descr="C:\Users\Lorenzo\Pictures\Raccolta multimediale Microsoft\j0286798.gif"/>
            <p:cNvPicPr/>
            <p:nvPr/>
          </p:nvPicPr>
          <p:blipFill>
            <a:blip r:embed="rId2"/>
            <a:stretch/>
          </p:blipFill>
          <p:spPr>
            <a:xfrm flipH="1">
              <a:off x="3214440" y="3571920"/>
              <a:ext cx="1333440" cy="7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CasellaDiTesto 7"/>
          <p:cNvSpPr/>
          <p:nvPr/>
        </p:nvSpPr>
        <p:spPr>
          <a:xfrm>
            <a:off x="652320" y="3573360"/>
            <a:ext cx="197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b71"/>
                </a:solidFill>
                <a:latin typeface="Monotype Corsiva"/>
              </a:rPr>
              <a:t>PortOf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CasellaDiTesto 8"/>
          <p:cNvSpPr/>
          <p:nvPr/>
        </p:nvSpPr>
        <p:spPr>
          <a:xfrm>
            <a:off x="571680" y="450072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b71"/>
                </a:solidFill>
                <a:latin typeface="Verdana"/>
              </a:rPr>
              <a:t>departure HAZMAT (loading po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CasellaDiTesto 9"/>
          <p:cNvSpPr/>
          <p:nvPr/>
        </p:nvSpPr>
        <p:spPr>
          <a:xfrm>
            <a:off x="563400" y="529128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9933"/>
                </a:solidFill>
                <a:uFillTx/>
                <a:latin typeface="Verdana"/>
              </a:rPr>
              <a:t>ETDfromPortof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9933"/>
                </a:solidFill>
                <a:uFillTx/>
                <a:latin typeface="Verdana"/>
              </a:rPr>
              <a:t>(or AT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is mand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asellaDiTesto 10"/>
          <p:cNvSpPr/>
          <p:nvPr/>
        </p:nvSpPr>
        <p:spPr>
          <a:xfrm>
            <a:off x="5857920" y="3622680"/>
            <a:ext cx="19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b71"/>
                </a:solidFill>
                <a:latin typeface="Monotype Corsiva"/>
              </a:rPr>
              <a:t>Next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ttangolo 11"/>
          <p:cNvSpPr/>
          <p:nvPr/>
        </p:nvSpPr>
        <p:spPr>
          <a:xfrm>
            <a:off x="4714920" y="52833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9933"/>
                </a:solidFill>
                <a:uFillTx/>
                <a:latin typeface="Verdana"/>
              </a:rPr>
              <a:t>ETAtoNextPort</a:t>
            </a: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   &amp;   </a:t>
            </a:r>
            <a:r>
              <a:rPr b="1" lang="en-GB" sz="1800" spc="-1" strike="noStrike" u="sng">
                <a:solidFill>
                  <a:srgbClr val="ff9933"/>
                </a:solidFill>
                <a:uFillTx/>
                <a:latin typeface="Verdana"/>
              </a:rPr>
              <a:t>Next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are mand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ttangolo 12"/>
          <p:cNvSpPr/>
          <p:nvPr/>
        </p:nvSpPr>
        <p:spPr>
          <a:xfrm>
            <a:off x="5950440" y="464328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destination 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066 -0.00255 C -0.24462 -0.0412 -0.11771 -0.07801 -0.03593 -0.07662 C 0.04514 -0.07477 0.08126 -0.03218 0.11737 0.01157 E">
                                      <p:cBhvr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0" descr="C:\Users\Lorenzo\AppData\Local\Microsoft\Windows\Temporary Internet Files\Content.IE5\K5I2FIPG\MPj04393440000[1].jpg"/>
          <p:cNvPicPr/>
          <p:nvPr/>
        </p:nvPicPr>
        <p:blipFill>
          <a:blip r:embed="rId2"/>
          <a:stretch/>
        </p:blipFill>
        <p:spPr>
          <a:xfrm>
            <a:off x="4572000" y="1571760"/>
            <a:ext cx="2571840" cy="2666880"/>
          </a:xfrm>
          <a:prstGeom prst="rect">
            <a:avLst/>
          </a:prstGeom>
          <a:ln w="0">
            <a:noFill/>
          </a:ln>
        </p:spPr>
      </p:pic>
      <p:sp>
        <p:nvSpPr>
          <p:cNvPr id="148" name="Segnaposto numero diapositiva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33C5-5545-40EC-8B5B-FAF3DE4F85B1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8560" y="1071360"/>
            <a:ext cx="39272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Reporting Hazmat EU</a:t>
            </a:r>
            <a:br>
              <a:rPr sz="2400"/>
            </a:b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(distinct message)</a:t>
            </a:r>
            <a:br>
              <a:rPr sz="2400"/>
            </a:br>
            <a:r>
              <a:rPr b="1" lang="en-GB" sz="1400" spc="-1" strike="noStrike">
                <a:solidFill>
                  <a:srgbClr val="0078c7"/>
                </a:solidFill>
                <a:latin typeface="Verdana"/>
              </a:rPr>
              <a:t>“UpdateStatus = N or U”</a:t>
            </a:r>
            <a:endParaRPr b="1" lang="en-US" sz="14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7164360" y="4653000"/>
            <a:ext cx="1368360" cy="341280"/>
            <a:chOff x="7164360" y="4653000"/>
            <a:chExt cx="1368360" cy="341280"/>
          </a:xfrm>
        </p:grpSpPr>
        <p:sp>
          <p:nvSpPr>
            <p:cNvPr id="151" name="AutoShape 6"/>
            <p:cNvSpPr/>
            <p:nvPr/>
          </p:nvSpPr>
          <p:spPr>
            <a:xfrm>
              <a:off x="7199280" y="4653000"/>
              <a:ext cx="1224000" cy="341280"/>
            </a:xfrm>
            <a:prstGeom prst="flowChartAlternateProcess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7164360" y="466884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uppo 22"/>
          <p:cNvGrpSpPr/>
          <p:nvPr/>
        </p:nvGrpSpPr>
        <p:grpSpPr>
          <a:xfrm>
            <a:off x="6804000" y="3933720"/>
            <a:ext cx="1403280" cy="341280"/>
            <a:chOff x="6804000" y="3933720"/>
            <a:chExt cx="1403280" cy="341280"/>
          </a:xfrm>
        </p:grpSpPr>
        <p:sp>
          <p:nvSpPr>
            <p:cNvPr id="154" name="AutoShape 4"/>
            <p:cNvSpPr/>
            <p:nvPr/>
          </p:nvSpPr>
          <p:spPr>
            <a:xfrm>
              <a:off x="6804000" y="3933720"/>
              <a:ext cx="1224000" cy="341280"/>
            </a:xfrm>
            <a:prstGeom prst="flowChartAlternateProcess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6838920" y="3958920"/>
              <a:ext cx="136836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uppo 23"/>
          <p:cNvGrpSpPr/>
          <p:nvPr/>
        </p:nvGrpSpPr>
        <p:grpSpPr>
          <a:xfrm>
            <a:off x="642960" y="2786040"/>
            <a:ext cx="3029040" cy="3278160"/>
            <a:chOff x="642960" y="2786040"/>
            <a:chExt cx="3029040" cy="3278160"/>
          </a:xfrm>
        </p:grpSpPr>
        <p:pic>
          <p:nvPicPr>
            <p:cNvPr id="157" name="Picture 13" descr="C:\Users\Lorenzo\AppData\Local\Microsoft\Windows\Temporary Internet Files\Content.IE5\XH0RTLBL\MCj01992730000[1].wmf"/>
            <p:cNvPicPr/>
            <p:nvPr/>
          </p:nvPicPr>
          <p:blipFill>
            <a:blip r:embed="rId5"/>
            <a:stretch/>
          </p:blipFill>
          <p:spPr>
            <a:xfrm>
              <a:off x="642960" y="2786040"/>
              <a:ext cx="3029040" cy="32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Rettangolo 21" descr=""/>
            <p:cNvPicPr/>
            <p:nvPr/>
          </p:nvPicPr>
          <p:blipFill>
            <a:blip r:embed="rId6"/>
            <a:stretch/>
          </p:blipFill>
          <p:spPr>
            <a:xfrm>
              <a:off x="841320" y="3413520"/>
              <a:ext cx="139608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438 -0.22801 C -0.53247 -0.21065 -0.5283 -0.19514 -0.51702 -0.18055 C -0.51441 -0.17708 -0.51146 -0.17153 -0.50782 -0.16898 C -0.5066 -0.16829 -0.50487 -0.16852 -0.50382 -0.16782 C -0.49688 -0.16458 -0.49115 -0.16088 -0.48369 -0.15856 C -0.47761 -0.15903 -0.47101 -0.15833 -0.46494 -0.15972 C -0.46181 -0.16042 -0.45973 -0.16273 -0.45695 -0.16435 C -0.45556 -0.16505 -0.45296 -0.16667 -0.45296 -0.1669 C -0.44532 -0.17662 -0.45556 -0.16505 -0.44636 -0.1713 C -0.44497 -0.17222 -0.4448 -0.17384 -0.44358 -0.17477 C -0.44115 -0.17708 -0.43855 -0.17917 -0.4356 -0.18055 C -0.43316 -0.18171 -0.43021 -0.18217 -0.42761 -0.18287 C -0.42257 -0.18449 -0.4191 -0.18912 -0.41424 -0.19097 C -0.39983 -0.19653 -0.41129 -0.19051 -0.40226 -0.1956 C -0.39896 -0.19514 -0.39549 -0.19606 -0.39289 -0.19444 C -0.38924 -0.19259 -0.38803 -0.1868 -0.3849 -0.18403 C -0.38212 -0.18171 -0.37674 -0.17708 -0.37674 -0.17731 C -0.37483 -0.17199 -0.37066 -0.16805 -0.36754 -0.16319 C -0.36389 -0.15787 -0.36112 -0.15231 -0.35539 -0.14815 C -0.34827 -0.14305 -0.35469 -0.14815 -0.3474 -0.14467 C -0.34462 -0.14329 -0.33941 -0.14005 -0.33941 -0.14028 C -0.33855 -0.13889 -0.33733 -0.13796 -0.33681 -0.13657 C -0.33594 -0.13403 -0.33681 -0.13102 -0.33542 -0.12847 C -0.33473 -0.12731 -0.33264 -0.12778 -0.33143 -0.12731 C -0.32865 -0.12592 -0.32639 -0.12361 -0.32344 -0.12268 C -0.30834 -0.11829 -0.29219 -0.11505 -0.27657 -0.11227 C -0.25417 -0.11319 -0.24375 -0.1118 -0.22726 -0.12268 C -0.22292 -0.12546 -0.21875 -0.13009 -0.21389 -0.13194 C -0.21129 -0.13287 -0.20851 -0.13356 -0.20591 -0.13426 C -0.20452 -0.13472 -0.20174 -0.13542 -0.20174 -0.13565 C -0.19115 -0.13449 -0.17987 -0.13472 -0.1698 -0.13194 C -0.14879 -0.12592 -0.17935 -0.13287 -0.15903 -0.12847 C -0.15122 -0.12315 -0.15556 -0.12592 -0.14566 -0.12037 C -0.14445 -0.11967 -0.14167 -0.11805 -0.14167 -0.11829 C -0.13907 -0.11111 -0.13178 -0.10648 -0.1257 -0.10185 C -0.11198 -0.0912 -0.12275 -0.09768 -0.11372 -0.09259 C -0.11094 -0.08912 -0.10764 -0.08495 -0.10435 -0.08217 C -0.09374 -0.07292 -0.1073 -0.08773 -0.09635 -0.07639 C -0.09079 -0.0706 -0.08472 -0.06319 -0.0776 -0.05903 C -0.06979 -0.04861 -0.06007 -0.04259 -0.04827 -0.03565 C -0.04548 -0.03426 -0.03784 -0.03102 -0.03489 -0.02986 C -0.03212 -0.02917 -0.02673 -0.02755 -0.02673 -0.02778 C -0.02222 -0.02384 -0.01927 -0.02361 -0.01337 -0.02176 C -0.00607 -0.02315 -0.00746 -0.0213 -0.00416 -0.02639 C -0.00312 -0.02801 -0.00225 -0.02963 -0.00138 -0.03102 C -0.00086 -0.03217 5E-006 -0.03449 5E-006 -0.03472 E">
                                      <p:cBhvr>
                                        <p:cTn id="31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7FE2-F46D-4CA8-820B-F4BD5769185C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7120" y="1071720"/>
            <a:ext cx="414360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Reporting HAZMAT EU Upon departure</a:t>
            </a:r>
            <a:br>
              <a:rPr sz="2400"/>
            </a:b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“UpdateStatus = U”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564000" y="5661000"/>
            <a:ext cx="1208160" cy="341280"/>
            <a:chOff x="3564000" y="5661000"/>
            <a:chExt cx="1208160" cy="341280"/>
          </a:xfrm>
        </p:grpSpPr>
        <p:sp>
          <p:nvSpPr>
            <p:cNvPr id="162" name="AutoShape 5"/>
            <p:cNvSpPr/>
            <p:nvPr/>
          </p:nvSpPr>
          <p:spPr>
            <a:xfrm>
              <a:off x="3594600" y="5661000"/>
              <a:ext cx="1080720" cy="34128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564000" y="5672160"/>
              <a:ext cx="12081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Picture 3" descr="C:\Users\Lorenzo\Pictures\Raccolta multimediale Microsoft\j0283617.gif"/>
          <p:cNvPicPr/>
          <p:nvPr/>
        </p:nvPicPr>
        <p:blipFill>
          <a:blip r:embed="rId3"/>
          <a:stretch/>
        </p:blipFill>
        <p:spPr>
          <a:xfrm flipH="1">
            <a:off x="926640" y="3286080"/>
            <a:ext cx="2194200" cy="207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C:\Users\Lorenzo\AppData\Local\Microsoft\Windows\Temporary Internet Files\Content.IE5\XH0RTLBL\MCj01992730000[1].wmf"/>
          <p:cNvPicPr/>
          <p:nvPr/>
        </p:nvPicPr>
        <p:blipFill>
          <a:blip r:embed="rId4"/>
          <a:stretch/>
        </p:blipFill>
        <p:spPr>
          <a:xfrm rot="21093000">
            <a:off x="1182600" y="3218040"/>
            <a:ext cx="2357640" cy="255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C:\Users\Lorenzo\AppData\Local\Microsoft\Windows\Temporary Internet Files\Content.IE5\K5I2FIPG\MPj04393470000[1].jpg"/>
          <p:cNvPicPr/>
          <p:nvPr/>
        </p:nvPicPr>
        <p:blipFill>
          <a:blip r:embed="rId5"/>
          <a:stretch/>
        </p:blipFill>
        <p:spPr>
          <a:xfrm>
            <a:off x="4356000" y="1413000"/>
            <a:ext cx="3495600" cy="34956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8"/>
          <p:cNvGrpSpPr/>
          <p:nvPr/>
        </p:nvGrpSpPr>
        <p:grpSpPr>
          <a:xfrm>
            <a:off x="7020000" y="4005360"/>
            <a:ext cx="1368360" cy="341280"/>
            <a:chOff x="7020000" y="4005360"/>
            <a:chExt cx="1368360" cy="341280"/>
          </a:xfrm>
        </p:grpSpPr>
        <p:sp>
          <p:nvSpPr>
            <p:cNvPr id="168" name="AutoShape 9"/>
            <p:cNvSpPr/>
            <p:nvPr/>
          </p:nvSpPr>
          <p:spPr>
            <a:xfrm>
              <a:off x="7054920" y="4005360"/>
              <a:ext cx="1224000" cy="341280"/>
            </a:xfrm>
            <a:prstGeom prst="flowChartAlternateProcess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7020000" y="401652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18FA-4854-42A6-B387-51B572FF4162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743C-1117-4DFC-879A-000FCE0CB4E5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5857920" y="4714920"/>
            <a:ext cx="285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f0"/>
                </a:solidFill>
                <a:latin typeface="Verdana"/>
              </a:rPr>
              <a:t>Q &amp; 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C:\Users\Lorenzo\AppData\Local\Microsoft\Windows\Temporary Internet Files\Content.IE5\YA7NT01J\MPj04393590000[1].jpg"/>
          <p:cNvPicPr/>
          <p:nvPr/>
        </p:nvPicPr>
        <p:blipFill>
          <a:blip r:embed="rId2"/>
          <a:stretch/>
        </p:blipFill>
        <p:spPr>
          <a:xfrm>
            <a:off x="642960" y="1285920"/>
            <a:ext cx="5072040" cy="51148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 rot="493800">
            <a:off x="4803840" y="318600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Verdana"/>
              </a:rPr>
              <a:t>Thank you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00"/>
                            </p:stCondLst>
                            <p:childTnLst>
                              <p:par>
                                <p:cTn id="3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7A8A-ED5D-4368-A1C8-AA8F21057505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Objectives of this presentation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Presentation of the “</a:t>
            </a:r>
            <a:r>
              <a:rPr b="0" i="1" lang="en-GB" sz="2400" spc="-1" strike="noStrike">
                <a:solidFill>
                  <a:srgbClr val="002b71"/>
                </a:solidFill>
                <a:latin typeface="Verdana"/>
              </a:rPr>
              <a:t>maquette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” of an hypothetical LCA system application to insert/ update data relevant to the PortPlus message at MS national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Hypothetical use of PortPlus message in the various phases of a ship call (before arrival, upon arrival and on departure)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14FE-321E-486E-B94F-ECEF08B877CA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68360" y="1916280"/>
            <a:ext cx="8064360" cy="4512960"/>
          </a:xfrm>
          <a:prstGeom prst="rect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1143000"/>
            <a:ext cx="566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8c7"/>
                </a:solidFill>
                <a:latin typeface="Verdana"/>
              </a:rPr>
              <a:t>Summary</a:t>
            </a:r>
            <a:endParaRPr b="1" lang="en-US" sz="3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928520"/>
            <a:ext cx="83534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Vessel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ICARO -  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eligible for an expanded inspection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Step 1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-172080">
              <a:lnSpc>
                <a:spcPct val="80000"/>
              </a:lnSpc>
              <a:spcBef>
                <a:spcPts val="3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Voyage  toward  PortOfCall  (e.g. Lisbon)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-172080">
              <a:lnSpc>
                <a:spcPct val="80000"/>
              </a:lnSpc>
              <a:spcBef>
                <a:spcPts val="2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Voyage: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 Dar-el-Beida </a:t>
            </a:r>
            <a:r>
              <a:rPr b="1" lang="en-GB" sz="1000" spc="-1" strike="noStrike">
                <a:solidFill>
                  <a:srgbClr val="002b71"/>
                </a:solidFill>
                <a:latin typeface="Verdana"/>
              </a:rPr>
              <a:t>(last port)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2b71"/>
                </a:solidFill>
                <a:latin typeface="Wingdings"/>
                <a:ea typeface="Wingdings"/>
              </a:rPr>
              <a:t>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Lisbon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GB" sz="1000" spc="-1" strike="noStrike">
                <a:solidFill>
                  <a:srgbClr val="002b71"/>
                </a:solidFill>
                <a:latin typeface="Verdana"/>
              </a:rPr>
              <a:t>(port of call)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2b71"/>
                </a:solidFill>
                <a:latin typeface="Wingdings"/>
                <a:ea typeface="Wingdings"/>
              </a:rPr>
              <a:t>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Algeciras </a:t>
            </a:r>
            <a:r>
              <a:rPr b="1" lang="en-GB" sz="1000" spc="-1" strike="noStrike">
                <a:solidFill>
                  <a:srgbClr val="002b71"/>
                </a:solidFill>
                <a:latin typeface="Verdana"/>
              </a:rPr>
              <a:t>(next port)</a:t>
            </a:r>
            <a:endParaRPr b="0" lang="en-US" sz="10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-172080">
              <a:lnSpc>
                <a:spcPct val="80000"/>
              </a:lnSpc>
              <a:spcBef>
                <a:spcPts val="3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b71"/>
                </a:solidFill>
                <a:latin typeface="Verdana"/>
              </a:rPr>
              <a:t>Info reported   </a:t>
            </a:r>
            <a:r>
              <a:rPr b="1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3days+24hours</a:t>
            </a:r>
            <a:r>
              <a:rPr b="0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 pre-arrival+</a:t>
            </a:r>
            <a:r>
              <a:rPr b="1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HAZMAT-NonEU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 (+ update)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Step 2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-172080">
              <a:lnSpc>
                <a:spcPct val="80000"/>
              </a:lnSpc>
              <a:spcBef>
                <a:spcPts val="3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arrived in Lisbon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-172080">
              <a:lnSpc>
                <a:spcPct val="80000"/>
              </a:lnSpc>
              <a:spcBef>
                <a:spcPts val="3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b71"/>
                </a:solidFill>
                <a:latin typeface="Verdana"/>
              </a:rPr>
              <a:t>Information reported  </a:t>
            </a:r>
            <a:r>
              <a:rPr b="1" lang="fr-FR" sz="1400" spc="-1" strike="noStrike" u="sng">
                <a:solidFill>
                  <a:srgbClr val="002b71"/>
                </a:solidFill>
                <a:uFillTx/>
                <a:latin typeface="Verdana"/>
              </a:rPr>
              <a:t>ATA 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Step 3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-172080">
              <a:lnSpc>
                <a:spcPct val="80000"/>
              </a:lnSpc>
              <a:spcBef>
                <a:spcPts val="3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departed from Lisbon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-172080">
              <a:lnSpc>
                <a:spcPct val="80000"/>
              </a:lnSpc>
              <a:spcBef>
                <a:spcPts val="3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DG loaded in Lisbon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-172080">
              <a:lnSpc>
                <a:spcPct val="80000"/>
              </a:lnSpc>
              <a:spcBef>
                <a:spcPts val="400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b71"/>
                </a:solidFill>
                <a:latin typeface="Verdana"/>
              </a:rPr>
              <a:t>Information reported 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68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1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ATD+HAZMAT-EU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 (+update)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</p:txBody>
      </p:sp>
      <p:cxnSp>
        <p:nvCxnSpPr>
          <p:cNvPr id="59" name="Connettore 2 9"/>
          <p:cNvCxnSpPr/>
          <p:nvPr/>
        </p:nvCxnSpPr>
        <p:spPr>
          <a:xfrm flipV="1">
            <a:off x="3214440" y="5643000"/>
            <a:ext cx="8578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Connettore 2 10"/>
          <p:cNvCxnSpPr/>
          <p:nvPr/>
        </p:nvCxnSpPr>
        <p:spPr>
          <a:xfrm>
            <a:off x="3214440" y="5857560"/>
            <a:ext cx="8578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CasellaDiTesto 13"/>
          <p:cNvSpPr/>
          <p:nvPr/>
        </p:nvSpPr>
        <p:spPr>
          <a:xfrm>
            <a:off x="4071960" y="5448240"/>
            <a:ext cx="24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HAZMAT-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311D-A350-40DB-912D-E97760640CAC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8c7"/>
                </a:solidFill>
                <a:latin typeface="Verdana"/>
              </a:rPr>
              <a:t>New attribut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0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Verdana"/>
              </a:rPr>
              <a:t>(MSRefID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446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Verdana"/>
              </a:rPr>
              <a:t>UpdateMSRefID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446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Verdana"/>
              </a:rPr>
              <a:t>UpdateStatu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446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Verdana"/>
              </a:rPr>
              <a:t>ShipCallID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HEREFORE…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266760" indent="-266760" algn="just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hey do </a:t>
            </a:r>
            <a:r>
              <a:rPr b="0" lang="en-GB" sz="2000" spc="-1" strike="noStrike" u="sng">
                <a:solidFill>
                  <a:srgbClr val="002b71"/>
                </a:solidFill>
                <a:uFillTx/>
                <a:latin typeface="Verdana"/>
              </a:rPr>
              <a:t>not impose any additional reporting requirement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to the actual data provider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hey will </a:t>
            </a:r>
            <a:r>
              <a:rPr b="0" lang="en-GB" sz="2000" spc="-1" strike="noStrike" u="sng">
                <a:solidFill>
                  <a:srgbClr val="002b71"/>
                </a:solidFill>
                <a:uFillTx/>
                <a:latin typeface="Verdana"/>
              </a:rPr>
              <a:t>contribute to maintain very high quality and data consistency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2241720"/>
            <a:ext cx="4608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automatically generated and inserted by the Member State ap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2205000"/>
            <a:ext cx="71280" cy="1368360"/>
          </a:xfrm>
          <a:custGeom>
            <a:avLst/>
            <a:gdLst>
              <a:gd name="textAreaLeft" fmla="*/ 0 w 71280"/>
              <a:gd name="textAreaRight" fmla="*/ 25560 w 71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cc00"/>
            </a:solidFill>
            <a:miter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4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49B7-CD1B-4B71-B740-3E835196A696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560" y="1213920"/>
            <a:ext cx="3855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Pre-arrival</a:t>
            </a:r>
            <a:br>
              <a:rPr sz="2400"/>
            </a:b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( + Hazmat Non-EU)</a:t>
            </a:r>
            <a:br>
              <a:rPr sz="2400"/>
            </a:b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“UpdateStatus = N”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4390920" y="1214280"/>
            <a:ext cx="3967200" cy="5070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:\Users\Lorenzo\Pictures\Raccolta multimediale Microsoft\j0286798.gif"/>
          <p:cNvPicPr/>
          <p:nvPr/>
        </p:nvPicPr>
        <p:blipFill>
          <a:blip r:embed="rId3"/>
          <a:stretch/>
        </p:blipFill>
        <p:spPr>
          <a:xfrm>
            <a:off x="5176800" y="4857840"/>
            <a:ext cx="752400" cy="771480"/>
          </a:xfrm>
          <a:prstGeom prst="rect">
            <a:avLst/>
          </a:prstGeom>
          <a:ln w="0">
            <a:noFill/>
          </a:ln>
        </p:spPr>
      </p:pic>
      <p:sp>
        <p:nvSpPr>
          <p:cNvPr id="71" name="Figura a mano libera 16"/>
          <p:cNvSpPr/>
          <p:nvPr/>
        </p:nvSpPr>
        <p:spPr>
          <a:xfrm>
            <a:off x="5532480" y="2038320"/>
            <a:ext cx="1096920" cy="3695760"/>
          </a:xfrm>
          <a:custGeom>
            <a:avLst/>
            <a:gdLst/>
            <a:ahLst/>
            <a:rect l="l" t="t" r="r" b="b"/>
            <a:pathLst>
              <a:path w="1097280" h="3696788">
                <a:moveTo>
                  <a:pt x="1097280" y="3696788"/>
                </a:moveTo>
                <a:cubicBezTo>
                  <a:pt x="1066800" y="3666308"/>
                  <a:pt x="1032768" y="3639008"/>
                  <a:pt x="1005840" y="3605348"/>
                </a:cubicBezTo>
                <a:cubicBezTo>
                  <a:pt x="997238" y="3594596"/>
                  <a:pt x="1003982" y="3574163"/>
                  <a:pt x="992778" y="3566160"/>
                </a:cubicBezTo>
                <a:cubicBezTo>
                  <a:pt x="970368" y="3550153"/>
                  <a:pt x="914400" y="3540034"/>
                  <a:pt x="914400" y="3540034"/>
                </a:cubicBezTo>
                <a:cubicBezTo>
                  <a:pt x="896983" y="3513908"/>
                  <a:pt x="884352" y="3483860"/>
                  <a:pt x="862149" y="3461657"/>
                </a:cubicBezTo>
                <a:cubicBezTo>
                  <a:pt x="836023" y="3435531"/>
                  <a:pt x="804267" y="3414022"/>
                  <a:pt x="783772" y="3383280"/>
                </a:cubicBezTo>
                <a:lnTo>
                  <a:pt x="731520" y="3304903"/>
                </a:lnTo>
                <a:cubicBezTo>
                  <a:pt x="705393" y="3265712"/>
                  <a:pt x="709751" y="3261361"/>
                  <a:pt x="666206" y="3239588"/>
                </a:cubicBezTo>
                <a:cubicBezTo>
                  <a:pt x="653890" y="3233430"/>
                  <a:pt x="640081" y="3230879"/>
                  <a:pt x="627018" y="3226525"/>
                </a:cubicBezTo>
                <a:cubicBezTo>
                  <a:pt x="604025" y="3157548"/>
                  <a:pt x="621594" y="3198797"/>
                  <a:pt x="561703" y="3108960"/>
                </a:cubicBezTo>
                <a:cubicBezTo>
                  <a:pt x="561701" y="3108956"/>
                  <a:pt x="509456" y="3030586"/>
                  <a:pt x="509452" y="3030583"/>
                </a:cubicBezTo>
                <a:lnTo>
                  <a:pt x="470263" y="3004457"/>
                </a:lnTo>
                <a:cubicBezTo>
                  <a:pt x="395386" y="2892137"/>
                  <a:pt x="485162" y="3034253"/>
                  <a:pt x="431075" y="2926080"/>
                </a:cubicBezTo>
                <a:cubicBezTo>
                  <a:pt x="424054" y="2912038"/>
                  <a:pt x="411970" y="2900933"/>
                  <a:pt x="404949" y="2886891"/>
                </a:cubicBezTo>
                <a:cubicBezTo>
                  <a:pt x="398791" y="2874575"/>
                  <a:pt x="398573" y="2859740"/>
                  <a:pt x="391886" y="2847703"/>
                </a:cubicBezTo>
                <a:cubicBezTo>
                  <a:pt x="376637" y="2820255"/>
                  <a:pt x="349565" y="2799113"/>
                  <a:pt x="339635" y="2769325"/>
                </a:cubicBezTo>
                <a:cubicBezTo>
                  <a:pt x="306801" y="2670826"/>
                  <a:pt x="351092" y="2792238"/>
                  <a:pt x="300446" y="2690948"/>
                </a:cubicBezTo>
                <a:cubicBezTo>
                  <a:pt x="294288" y="2678632"/>
                  <a:pt x="293541" y="2664076"/>
                  <a:pt x="287383" y="2651760"/>
                </a:cubicBezTo>
                <a:cubicBezTo>
                  <a:pt x="269195" y="2615383"/>
                  <a:pt x="250962" y="2602276"/>
                  <a:pt x="222069" y="2573383"/>
                </a:cubicBezTo>
                <a:cubicBezTo>
                  <a:pt x="217715" y="2560320"/>
                  <a:pt x="212346" y="2547552"/>
                  <a:pt x="209006" y="2534194"/>
                </a:cubicBezTo>
                <a:cubicBezTo>
                  <a:pt x="203621" y="2512654"/>
                  <a:pt x="203739" y="2489669"/>
                  <a:pt x="195943" y="2468880"/>
                </a:cubicBezTo>
                <a:cubicBezTo>
                  <a:pt x="190431" y="2454180"/>
                  <a:pt x="176194" y="2444037"/>
                  <a:pt x="169818" y="2429691"/>
                </a:cubicBezTo>
                <a:cubicBezTo>
                  <a:pt x="158633" y="2404526"/>
                  <a:pt x="152401" y="2377440"/>
                  <a:pt x="143692" y="2351314"/>
                </a:cubicBezTo>
                <a:lnTo>
                  <a:pt x="117566" y="2272937"/>
                </a:lnTo>
                <a:cubicBezTo>
                  <a:pt x="113212" y="2259874"/>
                  <a:pt x="107843" y="2247106"/>
                  <a:pt x="104503" y="2233748"/>
                </a:cubicBezTo>
                <a:cubicBezTo>
                  <a:pt x="88100" y="2168139"/>
                  <a:pt x="97117" y="2198529"/>
                  <a:pt x="78378" y="2142308"/>
                </a:cubicBezTo>
                <a:cubicBezTo>
                  <a:pt x="74024" y="2111828"/>
                  <a:pt x="71353" y="2081060"/>
                  <a:pt x="65315" y="2050868"/>
                </a:cubicBezTo>
                <a:cubicBezTo>
                  <a:pt x="62615" y="2037366"/>
                  <a:pt x="56035" y="2024919"/>
                  <a:pt x="52252" y="2011680"/>
                </a:cubicBezTo>
                <a:cubicBezTo>
                  <a:pt x="47320" y="1994417"/>
                  <a:pt x="44121" y="1976691"/>
                  <a:pt x="39189" y="1959428"/>
                </a:cubicBezTo>
                <a:cubicBezTo>
                  <a:pt x="35406" y="1946189"/>
                  <a:pt x="29222" y="1933657"/>
                  <a:pt x="26126" y="1920240"/>
                </a:cubicBezTo>
                <a:cubicBezTo>
                  <a:pt x="16141" y="1876972"/>
                  <a:pt x="0" y="1789611"/>
                  <a:pt x="0" y="1789611"/>
                </a:cubicBezTo>
                <a:cubicBezTo>
                  <a:pt x="4354" y="1441268"/>
                  <a:pt x="4868" y="1092856"/>
                  <a:pt x="13063" y="744583"/>
                </a:cubicBezTo>
                <a:cubicBezTo>
                  <a:pt x="13585" y="722386"/>
                  <a:pt x="20284" y="700688"/>
                  <a:pt x="26126" y="679268"/>
                </a:cubicBezTo>
                <a:cubicBezTo>
                  <a:pt x="33372" y="652699"/>
                  <a:pt x="43543" y="627017"/>
                  <a:pt x="52252" y="600891"/>
                </a:cubicBezTo>
                <a:cubicBezTo>
                  <a:pt x="56606" y="587828"/>
                  <a:pt x="61975" y="575061"/>
                  <a:pt x="65315" y="561703"/>
                </a:cubicBezTo>
                <a:cubicBezTo>
                  <a:pt x="97173" y="434271"/>
                  <a:pt x="58273" y="593392"/>
                  <a:pt x="91440" y="444137"/>
                </a:cubicBezTo>
                <a:cubicBezTo>
                  <a:pt x="95335" y="426611"/>
                  <a:pt x="100149" y="409302"/>
                  <a:pt x="104503" y="391885"/>
                </a:cubicBezTo>
                <a:cubicBezTo>
                  <a:pt x="107825" y="348697"/>
                  <a:pt x="105362" y="201184"/>
                  <a:pt x="143692" y="143691"/>
                </a:cubicBezTo>
                <a:lnTo>
                  <a:pt x="169818" y="104503"/>
                </a:lnTo>
                <a:cubicBezTo>
                  <a:pt x="174172" y="91440"/>
                  <a:pt x="176722" y="77630"/>
                  <a:pt x="182880" y="65314"/>
                </a:cubicBezTo>
                <a:cubicBezTo>
                  <a:pt x="189901" y="51272"/>
                  <a:pt x="200928" y="39587"/>
                  <a:pt x="209006" y="26125"/>
                </a:cubicBezTo>
                <a:cubicBezTo>
                  <a:pt x="214015" y="17776"/>
                  <a:pt x="217715" y="8708"/>
                  <a:pt x="222069" y="0"/>
                </a:cubicBezTo>
              </a:path>
            </a:pathLst>
          </a:custGeom>
          <a:noFill/>
          <a:ln w="28440">
            <a:solidFill>
              <a:srgbClr val="ffc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Gallone 17"/>
          <p:cNvSpPr/>
          <p:nvPr/>
        </p:nvSpPr>
        <p:spPr>
          <a:xfrm rot="14262000">
            <a:off x="6071760" y="5143320"/>
            <a:ext cx="142560" cy="142920"/>
          </a:xfrm>
          <a:custGeom>
            <a:avLst/>
            <a:gdLst>
              <a:gd name="textAreaLeft" fmla="*/ 0 w 142560"/>
              <a:gd name="textAreaRight" fmla="*/ 142920 w 1425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Gallone 18"/>
          <p:cNvSpPr/>
          <p:nvPr/>
        </p:nvSpPr>
        <p:spPr>
          <a:xfrm rot="14262000">
            <a:off x="5632200" y="4384080"/>
            <a:ext cx="142920" cy="1429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Gallone 19"/>
          <p:cNvSpPr/>
          <p:nvPr/>
        </p:nvSpPr>
        <p:spPr>
          <a:xfrm rot="16438800">
            <a:off x="5470560" y="2790360"/>
            <a:ext cx="142920" cy="1429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Gallone 20"/>
          <p:cNvSpPr/>
          <p:nvPr/>
        </p:nvSpPr>
        <p:spPr>
          <a:xfrm rot="16200000">
            <a:off x="5451480" y="3741480"/>
            <a:ext cx="142920" cy="1429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asellaDiTesto 21"/>
          <p:cNvSpPr/>
          <p:nvPr/>
        </p:nvSpPr>
        <p:spPr>
          <a:xfrm>
            <a:off x="357120" y="3147840"/>
            <a:ext cx="37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8c7"/>
                </a:solidFill>
                <a:latin typeface="Verdana"/>
              </a:rPr>
              <a:t>M/V </a:t>
            </a:r>
            <a:r>
              <a:rPr b="1" lang="it-IT" sz="1600" spc="-1" strike="noStrike">
                <a:solidFill>
                  <a:srgbClr val="0078c7"/>
                </a:solidFill>
                <a:latin typeface="Verdana"/>
              </a:rPr>
              <a:t>ICARO</a:t>
            </a:r>
            <a:r>
              <a:rPr b="0" lang="it-IT" sz="1600" spc="-1" strike="noStrike">
                <a:solidFill>
                  <a:srgbClr val="0078c7"/>
                </a:solidFill>
                <a:latin typeface="Verdana"/>
              </a:rPr>
              <a:t> left Dar-el-Beida (Morocco) bound for Lisbon (ETA 4/7/2009 - 15: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asellaDiTesto 22"/>
          <p:cNvSpPr/>
          <p:nvPr/>
        </p:nvSpPr>
        <p:spPr>
          <a:xfrm>
            <a:off x="357120" y="4505400"/>
            <a:ext cx="37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8c7"/>
                </a:solidFill>
                <a:latin typeface="Verdana"/>
              </a:rPr>
              <a:t>Pre-arrival and HAZMAT info are registered by Lisbon LCA application into SSN (manual inpu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4960" y="1071360"/>
            <a:ext cx="7319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Pre-arrival (+ Hazmat Non-EU)</a:t>
            </a:r>
            <a:br>
              <a:rPr sz="2800"/>
            </a:b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“UpdateStatus = N”</a:t>
            </a:r>
            <a:endParaRPr b="1" lang="en-US" sz="1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9" name="Segnaposto numero diapositiva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D985-9659-4E99-BB4E-FE1A11A34D55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C:\Users\Lorenzo\AppData\Local\Microsoft\Windows\Temporary Internet Files\Content.IE5\9HEZ2ZS5\MPj04393480000[1].jpg"/>
          <p:cNvPicPr/>
          <p:nvPr/>
        </p:nvPicPr>
        <p:blipFill>
          <a:blip r:embed="rId2"/>
          <a:stretch/>
        </p:blipFill>
        <p:spPr>
          <a:xfrm>
            <a:off x="4932360" y="24051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Users\Lorenzo\AppData\Local\Microsoft\Windows\Temporary Internet Files\Content.IE5\XH0RTLBL\MPj04393500000[1].jpg"/>
          <p:cNvPicPr/>
          <p:nvPr/>
        </p:nvPicPr>
        <p:blipFill>
          <a:blip r:embed="rId3"/>
          <a:stretch/>
        </p:blipFill>
        <p:spPr>
          <a:xfrm>
            <a:off x="857160" y="242892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8"/>
          <p:cNvGrpSpPr/>
          <p:nvPr/>
        </p:nvGrpSpPr>
        <p:grpSpPr>
          <a:xfrm>
            <a:off x="6715080" y="5159520"/>
            <a:ext cx="1368360" cy="341280"/>
            <a:chOff x="6715080" y="5159520"/>
            <a:chExt cx="1368360" cy="341280"/>
          </a:xfrm>
        </p:grpSpPr>
        <p:sp>
          <p:nvSpPr>
            <p:cNvPr id="83" name="AutoShape 9"/>
            <p:cNvSpPr/>
            <p:nvPr/>
          </p:nvSpPr>
          <p:spPr>
            <a:xfrm rot="10800000">
              <a:off x="6735240" y="5159520"/>
              <a:ext cx="1224000" cy="341280"/>
            </a:xfrm>
            <a:prstGeom prst="flowChartAlternateProcess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0"/>
            <p:cNvSpPr/>
            <p:nvPr/>
          </p:nvSpPr>
          <p:spPr>
            <a:xfrm>
              <a:off x="6715080" y="519480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Verdana"/>
                  <a:hlinkClick r:id="rId5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4"/>
          <p:cNvGrpSpPr/>
          <p:nvPr/>
        </p:nvGrpSpPr>
        <p:grpSpPr>
          <a:xfrm>
            <a:off x="2571840" y="2643120"/>
            <a:ext cx="1426680" cy="341280"/>
            <a:chOff x="2571840" y="2643120"/>
            <a:chExt cx="1426680" cy="341280"/>
          </a:xfrm>
        </p:grpSpPr>
        <p:sp>
          <p:nvSpPr>
            <p:cNvPr id="86" name="AutoShape 5"/>
            <p:cNvSpPr/>
            <p:nvPr/>
          </p:nvSpPr>
          <p:spPr>
            <a:xfrm>
              <a:off x="2571840" y="2643120"/>
              <a:ext cx="1223640" cy="341280"/>
            </a:xfrm>
            <a:prstGeom prst="flowChartAlternateProcess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6"/>
            <p:cNvSpPr/>
            <p:nvPr/>
          </p:nvSpPr>
          <p:spPr>
            <a:xfrm>
              <a:off x="2630160" y="266868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Verdana"/>
                  <a:hlinkClick r:id="rId7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A54E-A25A-4E24-9BCA-4FE0EFC60052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200" y="1071720"/>
            <a:ext cx="660564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Pre-arrival ( + Hazmat Non-EU)</a:t>
            </a:r>
            <a:br>
              <a:rPr sz="2400"/>
            </a:b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“UpdateStatus = U”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7072200" y="4643280"/>
            <a:ext cx="1368360" cy="341280"/>
            <a:chOff x="7072200" y="4643280"/>
            <a:chExt cx="1368360" cy="341280"/>
          </a:xfrm>
        </p:grpSpPr>
        <p:sp>
          <p:nvSpPr>
            <p:cNvPr id="91" name="AutoShape 5"/>
            <p:cNvSpPr/>
            <p:nvPr/>
          </p:nvSpPr>
          <p:spPr>
            <a:xfrm>
              <a:off x="7094160" y="4643280"/>
              <a:ext cx="1224000" cy="34128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7072200" y="468468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8"/>
          <p:cNvGrpSpPr/>
          <p:nvPr/>
        </p:nvGrpSpPr>
        <p:grpSpPr>
          <a:xfrm>
            <a:off x="6429240" y="3643200"/>
            <a:ext cx="1427400" cy="341280"/>
            <a:chOff x="6429240" y="3643200"/>
            <a:chExt cx="1427400" cy="341280"/>
          </a:xfrm>
        </p:grpSpPr>
        <p:sp>
          <p:nvSpPr>
            <p:cNvPr id="94" name="AutoShape 9"/>
            <p:cNvSpPr/>
            <p:nvPr/>
          </p:nvSpPr>
          <p:spPr>
            <a:xfrm>
              <a:off x="6429240" y="3643200"/>
              <a:ext cx="1224000" cy="341280"/>
            </a:xfrm>
            <a:prstGeom prst="flowChartAlternateProcess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0"/>
            <p:cNvSpPr/>
            <p:nvPr/>
          </p:nvSpPr>
          <p:spPr>
            <a:xfrm>
              <a:off x="6487920" y="3684600"/>
              <a:ext cx="136872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Picture 14" descr="C:\Users\Lorenzo\Pictures\Raccolta multimediale Microsoft\j0236302.gif"/>
          <p:cNvPicPr/>
          <p:nvPr/>
        </p:nvPicPr>
        <p:blipFill>
          <a:blip r:embed="rId4"/>
          <a:stretch/>
        </p:blipFill>
        <p:spPr>
          <a:xfrm>
            <a:off x="571680" y="3597120"/>
            <a:ext cx="1969920" cy="183204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17"/>
          <p:cNvSpPr/>
          <p:nvPr/>
        </p:nvSpPr>
        <p:spPr>
          <a:xfrm>
            <a:off x="2571840" y="3444840"/>
            <a:ext cx="321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78c7"/>
                </a:solidFill>
                <a:latin typeface="Verdana"/>
              </a:rPr>
              <a:t>Before ship’s arrival, plans for in-port cargo operations are changed as well as further HAZMAT details are made availabl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uppo 15"/>
          <p:cNvGrpSpPr/>
          <p:nvPr/>
        </p:nvGrpSpPr>
        <p:grpSpPr>
          <a:xfrm>
            <a:off x="468360" y="1914480"/>
            <a:ext cx="5214960" cy="4572000"/>
            <a:chOff x="468360" y="1914480"/>
            <a:chExt cx="5214960" cy="4572000"/>
          </a:xfrm>
        </p:grpSpPr>
        <p:pic>
          <p:nvPicPr>
            <p:cNvPr id="99" name="Picture 13" descr="C:\Users\Lorenzo\AppData\Local\Microsoft\Windows\Temporary Internet Files\Content.IE5\K5I2FIPG\MPj04392570000[1].jpg"/>
            <p:cNvPicPr/>
            <p:nvPr/>
          </p:nvPicPr>
          <p:blipFill>
            <a:blip r:embed="rId5"/>
            <a:stretch/>
          </p:blipFill>
          <p:spPr>
            <a:xfrm>
              <a:off x="468360" y="1914480"/>
              <a:ext cx="52149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CasellaDiTesto 14"/>
            <p:cNvSpPr/>
            <p:nvPr/>
          </p:nvSpPr>
          <p:spPr>
            <a:xfrm>
              <a:off x="1111320" y="4629240"/>
              <a:ext cx="407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78c7"/>
                  </a:solidFill>
                  <a:latin typeface="Verdana"/>
                  <a:ea typeface="NSimSun"/>
                </a:rPr>
                <a:t>ATTEN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78c7"/>
                  </a:solidFill>
                  <a:latin typeface="Verdana"/>
                  <a:ea typeface="NSimSun"/>
                </a:rPr>
                <a:t>this   is   an   update for SafeSeaNet 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AC1A-BA0B-4F79-BDFA-9377D65C2C04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6431040" y="2928960"/>
            <a:ext cx="1426680" cy="341280"/>
            <a:chOff x="6431040" y="2928960"/>
            <a:chExt cx="1426680" cy="341280"/>
          </a:xfrm>
        </p:grpSpPr>
        <p:sp>
          <p:nvSpPr>
            <p:cNvPr id="103" name="AutoShape 5"/>
            <p:cNvSpPr/>
            <p:nvPr/>
          </p:nvSpPr>
          <p:spPr>
            <a:xfrm>
              <a:off x="6431040" y="2928960"/>
              <a:ext cx="1223640" cy="34128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6489360" y="295452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6753240" y="3571920"/>
            <a:ext cx="1368360" cy="341280"/>
            <a:chOff x="6753240" y="3571920"/>
            <a:chExt cx="1368360" cy="341280"/>
          </a:xfrm>
        </p:grpSpPr>
        <p:sp>
          <p:nvSpPr>
            <p:cNvPr id="106" name="AutoShape 9"/>
            <p:cNvSpPr/>
            <p:nvPr/>
          </p:nvSpPr>
          <p:spPr>
            <a:xfrm>
              <a:off x="6788160" y="3571920"/>
              <a:ext cx="1224000" cy="341280"/>
            </a:xfrm>
            <a:prstGeom prst="flowChartAlternateProcess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6753240" y="358308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Picture 14" descr="C:\Users\Lorenzo\AppData\Local\Microsoft\Windows\Temporary Internet Files\Content.IE5\XH0RTLBL\MPj04393430000[1].jpg"/>
          <p:cNvPicPr/>
          <p:nvPr/>
        </p:nvPicPr>
        <p:blipFill>
          <a:blip r:embed="rId4"/>
          <a:stretch/>
        </p:blipFill>
        <p:spPr>
          <a:xfrm>
            <a:off x="857160" y="1643040"/>
            <a:ext cx="4786560" cy="478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C:\Users\Lorenzo\AppData\Local\Microsoft\Windows\Temporary Internet Files\Content.IE5\9HEZ2ZS5\MPj03993120000[1].jpg"/>
          <p:cNvPicPr/>
          <p:nvPr/>
        </p:nvPicPr>
        <p:blipFill>
          <a:blip r:embed="rId5"/>
          <a:stretch/>
        </p:blipFill>
        <p:spPr>
          <a:xfrm>
            <a:off x="2854440" y="2440080"/>
            <a:ext cx="2071440" cy="137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143000"/>
            <a:ext cx="2558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Upon Arrival</a:t>
            </a:r>
            <a:br>
              <a:rPr sz="2400"/>
            </a:b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“UpdateStatus = U”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7EAB-21D8-4974-9176-A3DC9E186107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929040" y="1643040"/>
            <a:ext cx="4411800" cy="4653000"/>
          </a:xfrm>
          <a:prstGeom prst="rect">
            <a:avLst/>
          </a:prstGeom>
          <a:ln w="0">
            <a:noFill/>
          </a:ln>
        </p:spPr>
      </p:pic>
      <p:grpSp>
        <p:nvGrpSpPr>
          <p:cNvPr id="113" name="Figura a mano libera 6"/>
          <p:cNvGrpSpPr/>
          <p:nvPr/>
        </p:nvGrpSpPr>
        <p:grpSpPr>
          <a:xfrm>
            <a:off x="4248000" y="2103480"/>
            <a:ext cx="1165320" cy="3900600"/>
            <a:chOff x="4248000" y="2103480"/>
            <a:chExt cx="1165320" cy="3900600"/>
          </a:xfrm>
        </p:grpSpPr>
        <p:pic>
          <p:nvPicPr>
            <p:cNvPr id="114" name="Figura a mano libera 6" descr=""/>
            <p:cNvPicPr/>
            <p:nvPr/>
          </p:nvPicPr>
          <p:blipFill>
            <a:blip r:embed="rId3"/>
            <a:stretch/>
          </p:blipFill>
          <p:spPr>
            <a:xfrm>
              <a:off x="4248000" y="2103480"/>
              <a:ext cx="1165320" cy="39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255920" y="2108160"/>
              <a:ext cx="114156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Figura a mano libera 7"/>
          <p:cNvSpPr/>
          <p:nvPr/>
        </p:nvSpPr>
        <p:spPr>
          <a:xfrm>
            <a:off x="4665600" y="2133720"/>
            <a:ext cx="3300480" cy="2916000"/>
          </a:xfrm>
          <a:custGeom>
            <a:avLst/>
            <a:gdLst/>
            <a:ahLst/>
            <a:rect l="l" t="t" r="r" b="b"/>
            <a:pathLst>
              <a:path w="3299887" h="2916063">
                <a:moveTo>
                  <a:pt x="20610" y="0"/>
                </a:moveTo>
                <a:cubicBezTo>
                  <a:pt x="7137" y="242517"/>
                  <a:pt x="0" y="222575"/>
                  <a:pt x="20610" y="469900"/>
                </a:cubicBezTo>
                <a:cubicBezTo>
                  <a:pt x="22403" y="491411"/>
                  <a:pt x="30257" y="512031"/>
                  <a:pt x="33310" y="533400"/>
                </a:cubicBezTo>
                <a:cubicBezTo>
                  <a:pt x="42990" y="601158"/>
                  <a:pt x="54329" y="738760"/>
                  <a:pt x="58710" y="800100"/>
                </a:cubicBezTo>
                <a:cubicBezTo>
                  <a:pt x="68914" y="942958"/>
                  <a:pt x="77905" y="1163064"/>
                  <a:pt x="96810" y="1295400"/>
                </a:cubicBezTo>
                <a:cubicBezTo>
                  <a:pt x="101043" y="1325033"/>
                  <a:pt x="105554" y="1354628"/>
                  <a:pt x="109510" y="1384300"/>
                </a:cubicBezTo>
                <a:cubicBezTo>
                  <a:pt x="114021" y="1418131"/>
                  <a:pt x="117383" y="1452113"/>
                  <a:pt x="122210" y="1485900"/>
                </a:cubicBezTo>
                <a:cubicBezTo>
                  <a:pt x="125852" y="1511392"/>
                  <a:pt x="131268" y="1536608"/>
                  <a:pt x="134910" y="1562100"/>
                </a:cubicBezTo>
                <a:cubicBezTo>
                  <a:pt x="139737" y="1595887"/>
                  <a:pt x="115013" y="1618924"/>
                  <a:pt x="120624" y="1652590"/>
                </a:cubicBezTo>
                <a:cubicBezTo>
                  <a:pt x="127022" y="1690977"/>
                  <a:pt x="109332" y="1690153"/>
                  <a:pt x="120624" y="1724028"/>
                </a:cubicBezTo>
                <a:lnTo>
                  <a:pt x="120624" y="1795466"/>
                </a:lnTo>
                <a:cubicBezTo>
                  <a:pt x="124857" y="1808166"/>
                  <a:pt x="113198" y="1855765"/>
                  <a:pt x="120624" y="1866904"/>
                </a:cubicBezTo>
                <a:lnTo>
                  <a:pt x="192062" y="1938342"/>
                </a:lnTo>
                <a:cubicBezTo>
                  <a:pt x="200529" y="1951042"/>
                  <a:pt x="250800" y="2001313"/>
                  <a:pt x="263500" y="2009780"/>
                </a:cubicBezTo>
                <a:cubicBezTo>
                  <a:pt x="312739" y="2042606"/>
                  <a:pt x="282358" y="2063691"/>
                  <a:pt x="334938" y="2081218"/>
                </a:cubicBezTo>
                <a:lnTo>
                  <a:pt x="334938" y="2081218"/>
                </a:lnTo>
                <a:cubicBezTo>
                  <a:pt x="343081" y="2105647"/>
                  <a:pt x="388834" y="2111242"/>
                  <a:pt x="401610" y="2133600"/>
                </a:cubicBezTo>
                <a:cubicBezTo>
                  <a:pt x="408252" y="2145223"/>
                  <a:pt x="426838" y="2142622"/>
                  <a:pt x="439710" y="2146300"/>
                </a:cubicBezTo>
                <a:cubicBezTo>
                  <a:pt x="471677" y="2155433"/>
                  <a:pt x="522583" y="2166462"/>
                  <a:pt x="554010" y="2171700"/>
                </a:cubicBezTo>
                <a:cubicBezTo>
                  <a:pt x="583537" y="2176621"/>
                  <a:pt x="613277" y="2180167"/>
                  <a:pt x="642910" y="2184400"/>
                </a:cubicBezTo>
                <a:cubicBezTo>
                  <a:pt x="668310" y="2201333"/>
                  <a:pt x="690150" y="2225547"/>
                  <a:pt x="719110" y="2235200"/>
                </a:cubicBezTo>
                <a:cubicBezTo>
                  <a:pt x="811869" y="2266120"/>
                  <a:pt x="758229" y="2276338"/>
                  <a:pt x="835004" y="2295532"/>
                </a:cubicBezTo>
                <a:cubicBezTo>
                  <a:pt x="922343" y="2353758"/>
                  <a:pt x="839382" y="2344617"/>
                  <a:pt x="906442" y="2366970"/>
                </a:cubicBezTo>
                <a:cubicBezTo>
                  <a:pt x="914909" y="2379670"/>
                  <a:pt x="965961" y="2428873"/>
                  <a:pt x="977880" y="2438408"/>
                </a:cubicBezTo>
                <a:lnTo>
                  <a:pt x="977880" y="2438408"/>
                </a:lnTo>
                <a:cubicBezTo>
                  <a:pt x="999466" y="2459994"/>
                  <a:pt x="1045872" y="2451101"/>
                  <a:pt x="1074710" y="2463800"/>
                </a:cubicBezTo>
                <a:cubicBezTo>
                  <a:pt x="1103548" y="2476499"/>
                  <a:pt x="1125510" y="2497667"/>
                  <a:pt x="1150910" y="2514600"/>
                </a:cubicBezTo>
                <a:cubicBezTo>
                  <a:pt x="1163610" y="2523067"/>
                  <a:pt x="1174530" y="2535173"/>
                  <a:pt x="1189010" y="2540000"/>
                </a:cubicBezTo>
                <a:cubicBezTo>
                  <a:pt x="1201710" y="2544233"/>
                  <a:pt x="1215408" y="2546199"/>
                  <a:pt x="1227110" y="2552700"/>
                </a:cubicBezTo>
                <a:cubicBezTo>
                  <a:pt x="1253795" y="2567525"/>
                  <a:pt x="1273198" y="2598481"/>
                  <a:pt x="1303310" y="2603500"/>
                </a:cubicBezTo>
                <a:cubicBezTo>
                  <a:pt x="1438119" y="2625968"/>
                  <a:pt x="1353825" y="2614365"/>
                  <a:pt x="1557310" y="2628900"/>
                </a:cubicBezTo>
                <a:cubicBezTo>
                  <a:pt x="1717853" y="2682414"/>
                  <a:pt x="1461175" y="2593142"/>
                  <a:pt x="1633510" y="2667000"/>
                </a:cubicBezTo>
                <a:cubicBezTo>
                  <a:pt x="1649553" y="2673876"/>
                  <a:pt x="1667592" y="2674684"/>
                  <a:pt x="1684310" y="2679700"/>
                </a:cubicBezTo>
                <a:cubicBezTo>
                  <a:pt x="1727182" y="2692562"/>
                  <a:pt x="1806785" y="2723396"/>
                  <a:pt x="1849410" y="2730500"/>
                </a:cubicBezTo>
                <a:cubicBezTo>
                  <a:pt x="1895532" y="2738187"/>
                  <a:pt x="1942672" y="2737737"/>
                  <a:pt x="1989110" y="2743200"/>
                </a:cubicBezTo>
                <a:cubicBezTo>
                  <a:pt x="2018405" y="2746646"/>
                  <a:pt x="2097228" y="2761582"/>
                  <a:pt x="2128810" y="2768600"/>
                </a:cubicBezTo>
                <a:cubicBezTo>
                  <a:pt x="2145849" y="2772386"/>
                  <a:pt x="2162571" y="2777514"/>
                  <a:pt x="2179610" y="2781300"/>
                </a:cubicBezTo>
                <a:cubicBezTo>
                  <a:pt x="2200682" y="2785983"/>
                  <a:pt x="2221818" y="2790451"/>
                  <a:pt x="2243110" y="2794000"/>
                </a:cubicBezTo>
                <a:cubicBezTo>
                  <a:pt x="2289838" y="2801788"/>
                  <a:pt x="2348477" y="2806573"/>
                  <a:pt x="2395510" y="2819400"/>
                </a:cubicBezTo>
                <a:cubicBezTo>
                  <a:pt x="2421341" y="2826445"/>
                  <a:pt x="2471710" y="2844800"/>
                  <a:pt x="2471710" y="2844800"/>
                </a:cubicBezTo>
                <a:cubicBezTo>
                  <a:pt x="2655609" y="2833982"/>
                  <a:pt x="2653326" y="2821941"/>
                  <a:pt x="2801910" y="2844800"/>
                </a:cubicBezTo>
                <a:cubicBezTo>
                  <a:pt x="2813665" y="2846608"/>
                  <a:pt x="2876058" y="2862824"/>
                  <a:pt x="2890810" y="2870200"/>
                </a:cubicBezTo>
                <a:cubicBezTo>
                  <a:pt x="2904462" y="2877026"/>
                  <a:pt x="2916210" y="2887133"/>
                  <a:pt x="2928910" y="2895600"/>
                </a:cubicBezTo>
                <a:cubicBezTo>
                  <a:pt x="3228929" y="2872522"/>
                  <a:pt x="3014983" y="2916063"/>
                  <a:pt x="3132110" y="2857500"/>
                </a:cubicBezTo>
                <a:cubicBezTo>
                  <a:pt x="3144084" y="2851513"/>
                  <a:pt x="3158508" y="2851301"/>
                  <a:pt x="3170210" y="2844800"/>
                </a:cubicBezTo>
                <a:cubicBezTo>
                  <a:pt x="3196895" y="2829975"/>
                  <a:pt x="3246410" y="2794000"/>
                  <a:pt x="3246410" y="2794000"/>
                </a:cubicBezTo>
                <a:cubicBezTo>
                  <a:pt x="3264991" y="2766129"/>
                  <a:pt x="3286468" y="2737326"/>
                  <a:pt x="3297210" y="2705100"/>
                </a:cubicBezTo>
                <a:cubicBezTo>
                  <a:pt x="3299887" y="2697068"/>
                  <a:pt x="3297210" y="2688167"/>
                  <a:pt x="3297210" y="2679700"/>
                </a:cubicBezTo>
              </a:path>
            </a:pathLst>
          </a:custGeom>
          <a:noFill/>
          <a:ln w="3168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Mezza cornice 12"/>
          <p:cNvSpPr/>
          <p:nvPr/>
        </p:nvSpPr>
        <p:spPr>
          <a:xfrm rot="8353800">
            <a:off x="7316280" y="4895640"/>
            <a:ext cx="176400" cy="180720"/>
          </a:xfrm>
          <a:custGeom>
            <a:avLst/>
            <a:gdLst/>
            <a:ahLst/>
            <a:rect l="l" t="t" r="r" b="b"/>
            <a:pathLst>
              <a:path w="176218" h="180972">
                <a:moveTo>
                  <a:pt x="0" y="0"/>
                </a:moveTo>
                <a:lnTo>
                  <a:pt x="176218" y="0"/>
                </a:lnTo>
                <a:lnTo>
                  <a:pt x="119022" y="58739"/>
                </a:lnTo>
                <a:lnTo>
                  <a:pt x="58739" y="58739"/>
                </a:lnTo>
                <a:lnTo>
                  <a:pt x="58739" y="120649"/>
                </a:lnTo>
                <a:lnTo>
                  <a:pt x="0" y="1809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Mezza cornice 13"/>
          <p:cNvSpPr/>
          <p:nvPr/>
        </p:nvSpPr>
        <p:spPr>
          <a:xfrm rot="11942400">
            <a:off x="4697280" y="3814560"/>
            <a:ext cx="176400" cy="180720"/>
          </a:xfrm>
          <a:custGeom>
            <a:avLst/>
            <a:gdLst/>
            <a:ahLst/>
            <a:rect l="l" t="t" r="r" b="b"/>
            <a:pathLst>
              <a:path w="176218" h="180972">
                <a:moveTo>
                  <a:pt x="0" y="0"/>
                </a:moveTo>
                <a:lnTo>
                  <a:pt x="176218" y="0"/>
                </a:lnTo>
                <a:lnTo>
                  <a:pt x="119022" y="58739"/>
                </a:lnTo>
                <a:lnTo>
                  <a:pt x="58739" y="58739"/>
                </a:lnTo>
                <a:lnTo>
                  <a:pt x="58739" y="120649"/>
                </a:lnTo>
                <a:lnTo>
                  <a:pt x="0" y="1809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Mezza cornice 14"/>
          <p:cNvSpPr/>
          <p:nvPr/>
        </p:nvSpPr>
        <p:spPr>
          <a:xfrm rot="12868800">
            <a:off x="4620960" y="2658240"/>
            <a:ext cx="176040" cy="181080"/>
          </a:xfrm>
          <a:custGeom>
            <a:avLst/>
            <a:gdLst/>
            <a:ahLst/>
            <a:rect l="l" t="t" r="r" b="b"/>
            <a:pathLst>
              <a:path w="176218" h="180972">
                <a:moveTo>
                  <a:pt x="0" y="0"/>
                </a:moveTo>
                <a:lnTo>
                  <a:pt x="176218" y="0"/>
                </a:lnTo>
                <a:lnTo>
                  <a:pt x="119022" y="58739"/>
                </a:lnTo>
                <a:lnTo>
                  <a:pt x="58739" y="58739"/>
                </a:lnTo>
                <a:lnTo>
                  <a:pt x="58739" y="120649"/>
                </a:lnTo>
                <a:lnTo>
                  <a:pt x="0" y="1809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Mezza cornice 15"/>
          <p:cNvSpPr/>
          <p:nvPr/>
        </p:nvSpPr>
        <p:spPr>
          <a:xfrm rot="2955000">
            <a:off x="4245480" y="3285360"/>
            <a:ext cx="104760" cy="109440"/>
          </a:xfrm>
          <a:custGeom>
            <a:avLst/>
            <a:gdLst/>
            <a:ahLst/>
            <a:rect l="l" t="t" r="r" b="b"/>
            <a:pathLst>
              <a:path w="104780" h="109534">
                <a:moveTo>
                  <a:pt x="0" y="0"/>
                </a:moveTo>
                <a:lnTo>
                  <a:pt x="104780" y="0"/>
                </a:lnTo>
                <a:lnTo>
                  <a:pt x="71370" y="34926"/>
                </a:lnTo>
                <a:lnTo>
                  <a:pt x="34926" y="34926"/>
                </a:lnTo>
                <a:lnTo>
                  <a:pt x="34926" y="73023"/>
                </a:lnTo>
                <a:lnTo>
                  <a:pt x="0" y="109534"/>
                </a:lnTo>
                <a:close/>
              </a:path>
            </a:pathLst>
          </a:cu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Mezza cornice 16"/>
          <p:cNvSpPr/>
          <p:nvPr/>
        </p:nvSpPr>
        <p:spPr>
          <a:xfrm rot="8766600">
            <a:off x="5892480" y="4642920"/>
            <a:ext cx="176040" cy="181080"/>
          </a:xfrm>
          <a:custGeom>
            <a:avLst/>
            <a:gdLst/>
            <a:ahLst/>
            <a:rect l="l" t="t" r="r" b="b"/>
            <a:pathLst>
              <a:path w="176218" h="180972">
                <a:moveTo>
                  <a:pt x="0" y="0"/>
                </a:moveTo>
                <a:lnTo>
                  <a:pt x="176218" y="0"/>
                </a:lnTo>
                <a:lnTo>
                  <a:pt x="119022" y="58739"/>
                </a:lnTo>
                <a:lnTo>
                  <a:pt x="58739" y="58739"/>
                </a:lnTo>
                <a:lnTo>
                  <a:pt x="58739" y="120649"/>
                </a:lnTo>
                <a:lnTo>
                  <a:pt x="0" y="1809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Mezza cornice 17"/>
          <p:cNvSpPr/>
          <p:nvPr/>
        </p:nvSpPr>
        <p:spPr>
          <a:xfrm rot="1143600">
            <a:off x="4384800" y="4500720"/>
            <a:ext cx="104760" cy="109440"/>
          </a:xfrm>
          <a:custGeom>
            <a:avLst/>
            <a:gdLst/>
            <a:ahLst/>
            <a:rect l="l" t="t" r="r" b="b"/>
            <a:pathLst>
              <a:path w="104780" h="109534">
                <a:moveTo>
                  <a:pt x="0" y="0"/>
                </a:moveTo>
                <a:lnTo>
                  <a:pt x="104780" y="0"/>
                </a:lnTo>
                <a:lnTo>
                  <a:pt x="71370" y="34926"/>
                </a:lnTo>
                <a:lnTo>
                  <a:pt x="34926" y="34926"/>
                </a:lnTo>
                <a:lnTo>
                  <a:pt x="34926" y="73023"/>
                </a:lnTo>
                <a:lnTo>
                  <a:pt x="0" y="109534"/>
                </a:lnTo>
                <a:close/>
              </a:path>
            </a:pathLst>
          </a:cu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Mezza cornice 18"/>
          <p:cNvSpPr/>
          <p:nvPr/>
        </p:nvSpPr>
        <p:spPr>
          <a:xfrm>
            <a:off x="4984920" y="5572080"/>
            <a:ext cx="104760" cy="109440"/>
          </a:xfrm>
          <a:custGeom>
            <a:avLst/>
            <a:gdLst/>
            <a:ahLst/>
            <a:rect l="l" t="t" r="r" b="b"/>
            <a:pathLst>
              <a:path w="104780" h="109534">
                <a:moveTo>
                  <a:pt x="0" y="0"/>
                </a:moveTo>
                <a:lnTo>
                  <a:pt x="104780" y="0"/>
                </a:lnTo>
                <a:lnTo>
                  <a:pt x="71370" y="34926"/>
                </a:lnTo>
                <a:lnTo>
                  <a:pt x="34926" y="34926"/>
                </a:lnTo>
                <a:lnTo>
                  <a:pt x="34926" y="73023"/>
                </a:lnTo>
                <a:lnTo>
                  <a:pt x="0" y="109534"/>
                </a:lnTo>
                <a:close/>
              </a:path>
            </a:pathLst>
          </a:cu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C:\Users\Lorenzo\Pictures\Raccolta multimediale Microsoft\j0283617.gif"/>
          <p:cNvPicPr/>
          <p:nvPr/>
        </p:nvPicPr>
        <p:blipFill>
          <a:blip r:embed="rId4"/>
          <a:stretch/>
        </p:blipFill>
        <p:spPr>
          <a:xfrm flipH="1">
            <a:off x="5785920" y="4000680"/>
            <a:ext cx="60516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8560" y="1213920"/>
            <a:ext cx="3855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Departure</a:t>
            </a:r>
            <a:br>
              <a:rPr sz="2400"/>
            </a:b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( + Hazmat EU)</a:t>
            </a:r>
            <a:br>
              <a:rPr sz="2400"/>
            </a:b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“UpdateStatus = U”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26" name="CasellaDiTesto 22"/>
          <p:cNvSpPr/>
          <p:nvPr/>
        </p:nvSpPr>
        <p:spPr>
          <a:xfrm>
            <a:off x="500040" y="2922480"/>
            <a:ext cx="30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8c7"/>
                </a:solidFill>
                <a:latin typeface="Verdana"/>
              </a:rPr>
              <a:t>M/V </a:t>
            </a:r>
            <a:r>
              <a:rPr b="1" lang="it-IT" sz="1600" spc="-1" strike="noStrike">
                <a:solidFill>
                  <a:srgbClr val="0078c7"/>
                </a:solidFill>
                <a:latin typeface="Verdana"/>
              </a:rPr>
              <a:t>ICARO</a:t>
            </a:r>
            <a:r>
              <a:rPr b="0" lang="it-IT" sz="1600" spc="-1" strike="noStrike">
                <a:solidFill>
                  <a:srgbClr val="0078c7"/>
                </a:solidFill>
                <a:latin typeface="Verdana"/>
              </a:rPr>
              <a:t> leaves Lisbon  bound for Algeci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asellaDiTesto 23"/>
          <p:cNvSpPr/>
          <p:nvPr/>
        </p:nvSpPr>
        <p:spPr>
          <a:xfrm>
            <a:off x="500040" y="3643200"/>
            <a:ext cx="307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8c7"/>
                </a:solidFill>
                <a:latin typeface="Verdana"/>
              </a:rPr>
              <a:t>In Lisbon the ship has loaded dangerous and polluting go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asellaDiTesto 24"/>
          <p:cNvSpPr/>
          <p:nvPr/>
        </p:nvSpPr>
        <p:spPr>
          <a:xfrm>
            <a:off x="482760" y="4675320"/>
            <a:ext cx="3071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8c7"/>
                </a:solidFill>
                <a:latin typeface="Verdana"/>
              </a:rPr>
              <a:t>Information about ship’s actual departure and departing HAZMAT are to be notified to SSN through the LCA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3" descr="C:\Users\Lorenzo\AppData\Local\Microsoft\Windows\Temporary Internet Files\Content.IE5\XH0RTLBL\MCj01992730000[1].wmf"/>
          <p:cNvPicPr/>
          <p:nvPr/>
        </p:nvPicPr>
        <p:blipFill>
          <a:blip r:embed="rId5"/>
          <a:stretch/>
        </p:blipFill>
        <p:spPr>
          <a:xfrm rot="20599800">
            <a:off x="5000400" y="3109680"/>
            <a:ext cx="23572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3:23:28Z</dcterms:created>
  <dc:creator>Nikos Panagiotarakis</dc:creator>
  <dc:description/>
  <dc:language>en-US</dc:language>
  <cp:lastModifiedBy>FIAMMA Lorenzo</cp:lastModifiedBy>
  <cp:lastPrinted>2004-03-26T09:05:49Z</cp:lastPrinted>
  <dcterms:modified xsi:type="dcterms:W3CDTF">2009-06-11T07:45:26Z</dcterms:modified>
  <cp:revision>87</cp:revision>
  <dc:subject/>
  <dc:title>Slide 1</dc:title>
</cp:coreProperties>
</file>